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7FB6-27A7-48B3-A96F-F1FC14CF76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A175-940B-4B45-B81E-D3D105C34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2B08-ABA8-4505-87F2-F764D083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342E-BA65-440E-96B4-387E448AB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5CDA-9BAA-444A-BA58-DBD35B923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67A2-9685-42C9-92BF-CFE786A5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35C3-1E36-414E-A120-ECACF623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867B-992F-445B-BAE0-E11EC437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F3BD-5C3C-405E-AB9B-1D9FD5FA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731F-CBCF-4D7D-831F-5DBA1231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8EC8-CAF3-4023-A646-A2577D4A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493A-1717-46D7-B392-3187548D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CCA2-C60A-4739-8AA9-49FA0DF1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B847-BC15-4552-98BF-1C9F5B43F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7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308720" y="260280"/>
            <a:ext cx="15732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04720" y="166680"/>
            <a:ext cx="8134560" cy="6524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101080" y="189000"/>
            <a:ext cx="817560" cy="936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95280" y="1600200"/>
            <a:ext cx="835344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хема теплопостачання міста Луцьк розроблена згідно з «Технічним завданням на розроблення схеми теплопостачання», підготовленим спеціалістами державного комунального підприємства "Луцьктепло" та узгодженим з виконавчим комітетом Луцької міської ради, на виконання Закону України “Про теплопостачання” і у відповідності з Методичними рекомендаціями з розроблення енерго- та екологоефективних схем теплопостачання населених пунктів України (затверджені наказом Міністерства будівництва архітектури та житлово-комунального господарства України від 26 квітня 2006 р. № 14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кономічний ефект обумовлений заміщенням природного газу на альтернативні види палива, зокрема відходів деревини та електроенергії, а також встановленням високоефективного газового обладнання. При копітальних затратах 135,5 млн.грн. річна економія коштів складе – 46,7 млн. грн. Скорочення споживання природного газу – 20,66 млн. м3/рік. Термін окупності заходів схеми теплопостачання складе – 2 роки 9 місяц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956720" y="189000"/>
            <a:ext cx="9442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м. Луць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Населення – 206,5 тис.чо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Площа – 42 км</a:t>
            </a:r>
            <a:r>
              <a:rPr b="0" lang="uk-UA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Протяжність – 15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Ширина – 10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Житловий фонд – 11121б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5 поверх. І вище – 2460 б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Площа ж.ф. – 4041.3 тис. м</a:t>
            </a:r>
            <a:r>
              <a:rPr b="0" lang="uk-UA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09640" y="333360"/>
            <a:ext cx="1951200" cy="2232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492360" y="476280"/>
            <a:ext cx="510408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8569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000000"/>
                </a:solidFill>
                <a:uFillTx/>
                <a:latin typeface="Times New Roman"/>
              </a:rPr>
              <a:t>Мета схеми теплопостачанн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корочення споживання природного газу за рахунок заміни існуючого теплоенергетичного обладнання на високоефективне газове обладнання та перевід газових котелень бюджетної сфери на альтернативний вид пал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000000"/>
                </a:solidFill>
                <a:uFillTx/>
                <a:latin typeface="Times New Roman"/>
              </a:rPr>
              <a:t>Завдання схеми теплопостачанн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конструкція системи теплозабезпечення м. Луцьк 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ліквідацією нерентабельних підвальних котеле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лаштування високоефективного газового устаткува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еревід газових котелень на альтернативний вид пал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812000" y="260280"/>
            <a:ext cx="113364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84358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Теплова потужність котелен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становлена – 487,93 Гкал/год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иєднана – 259,36 Гкал/год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ількість котелень – 60 одиниць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ількість встановлених котлів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 180 одиниць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 127 одиниць з терміном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ксплуатації більше 20 років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ількість ЦТП – 51 одиниця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ількість ІТП – 3 одиниці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еплові мережі – 138,9 км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880920" cy="100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940360" y="4076640"/>
            <a:ext cx="3024360" cy="2592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84360" y="981000"/>
            <a:ext cx="497340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743280" cy="2335320"/>
          </a:xfrm>
          <a:prstGeom prst="rect">
            <a:avLst/>
          </a:prstGeom>
          <a:ln w="0">
            <a:noFill/>
          </a:ln>
        </p:spPr>
      </p:pic>
      <p:pic>
        <p:nvPicPr>
          <p:cNvPr id="60" name="Диаграмма 5" descr=""/>
          <p:cNvPicPr/>
          <p:nvPr/>
        </p:nvPicPr>
        <p:blipFill>
          <a:blip r:embed="rId2"/>
          <a:srcRect l="0" t="0" r="-49" b="-214"/>
          <a:stretch/>
        </p:blipFill>
        <p:spPr>
          <a:xfrm>
            <a:off x="324000" y="4076640"/>
            <a:ext cx="4140000" cy="239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4211640" y="1557360"/>
          <a:ext cx="4932360" cy="5300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1557360"/>
                    <a:ext cx="493236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7894800" y="260280"/>
            <a:ext cx="10062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трати на енергоносії в місті Луцьк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2011-2025 гг.)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гноз росту затрат на оплату ПЕР до 2025р.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880920" cy="100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24000" y="2349360"/>
            <a:ext cx="4176720" cy="2438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72000" y="2349360"/>
            <a:ext cx="4321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50920" y="1557360"/>
          <a:ext cx="4537080" cy="4199040"/>
        </p:xfrm>
        <a:graphic>
          <a:graphicData uri="http://schemas.openxmlformats.org/drawingml/2006/table">
            <a:tbl>
              <a:tblPr/>
              <a:tblGrid>
                <a:gridCol w="865080"/>
                <a:gridCol w="934920"/>
                <a:gridCol w="1008360"/>
                <a:gridCol w="865080"/>
                <a:gridCol w="863640"/>
              </a:tblGrid>
              <a:tr h="1585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іна енерго-носі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н за од (м3, кг, л, кВт*го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-творна спромо-жність палива, ккал/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-творна спром-ожність паливакВт/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Ціна кВт енергії (грн/кВ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гілл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ево ще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зу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ктроенерг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88000" y="1413000"/>
            <a:ext cx="4356000" cy="4929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956720" y="260280"/>
            <a:ext cx="9442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роблена Схема теплопостачання включає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яснювальну записку з аналізом загальної характеристики м.Луцьк; аналіз існуючої системи теплопостачання міста; потребу міста у тепловій енергії з урахуванням перспектив розвитку; загальними пропозиціями по впровадженню заходів щодо модернізації і реконструкції існуючих джерел теплової енергії і теплових мереж; рекомендаціями з теплопостачання міста на розрахунковий період; варіантами схем теплопостач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рафічну частину із схемою теплових мереж м. Луць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іко-економічні розрахунки ефективності інвестиційних проект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нергетичне обстеження систем теплопостачання міста у період 2007-2009рр. Із описом бази даних енергоспоживання; зведеними формами обліку витрат енергоресурсів; тарифами; формами приведеної вартості енергоресурсів; питомими витратами енергоносії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ект перспективного паливно-енергетичного балансу із тарифними прогнозами; планами реалізації інвестиційних проектів; паливно-енергетичними балансами 2007-2009рр. та на період 2010-2025рр.; вартісними балансами 2007-2009рр. та на період 2010-2025рр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956720" y="189000"/>
            <a:ext cx="9442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Програмою поетапного впровадження заходів з оптимізації схеми теплопостачання, енергоефективної реконструкції об’єктів централізованої системи теплопостачання м. Луцька та зменшення споживання природного газу передбачаються до реалізації наступні заход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еконструкція котельних агрегатів із заміною газо-пальникових пристрої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одернізація котельних із заміною низько ефективних котлів – типу НІІСТУ, Універсал, Е 1/9 на сучасні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Ліквідація малоефективних котелень, влаштованих в підвалах житлових будинкі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одернізація і реконструкція малоефективного обладнання та перехід на місцеві, альтернативні види пали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аміна застарілих кожухотрубних швидкісних водопідігрівачів на більш ефективні теплообмінники пластинчатого тип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влаштування індивідуальних теплових пунктів (ІТП) та усунення «перетопів» в житлових будинках в перехідний період (осіннє-зимовий та зимово-весняний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становлення частотних регуляторів на насосах, вентиляторах та димососах, що працюють із змінним навантаження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ниження втрат в існуючих мережах і зниження ремонтних та капітальних витрат за рахунок застосування енергозберігаючих технологій і заміни існуючих, що відпрацювали свій ресурс трубопроводів на попередньо ізольовані, що мають більш тривалий термін експлуатації та дуже низькі тепловтра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меншення обсягів споживання природного газу на 33 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меншення обсягу шкідливих викидів та парникових газів в атмосферу та зниження екологічного навантаження на навколишнє середовищ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956720" y="189000"/>
            <a:ext cx="9442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2:46:52Z</dcterms:created>
  <dc:creator>Дмитро</dc:creator>
  <dc:description/>
  <dc:language>en-US</dc:language>
  <cp:lastModifiedBy>sheremeta</cp:lastModifiedBy>
  <dcterms:modified xsi:type="dcterms:W3CDTF">2012-06-15T11:26:38Z</dcterms:modified>
  <cp:revision>12</cp:revision>
  <dc:subject/>
  <dc:title>ЛУЦЬКА МІСЬКА РАДА</dc:title>
</cp:coreProperties>
</file>