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38D-4166-4128-941D-4C20710E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2908-4D77-4034-B73F-D8B51D4C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5C3-E1DA-4384-8721-B0F84BE8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AB6-EC89-4357-A6DF-4CCBABB2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35A-2EA6-4E22-8AFF-C2BB70C4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8C2F-376F-4ECA-8067-5FD62D6D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866F-64AC-4104-B789-401C97AA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E8DF-1519-40B5-A7D4-774F7DA1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2A0B-69F3-43FB-AEAE-019A6979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F6A-3D28-4C14-8B33-F9C8A30F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2C47-50E6-4767-8A7A-0CB8D73D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7FE-F7C0-4DE5-A46F-9B5B8B8B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2207-C6CA-4A42-86D9-6F32669E9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2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Управління економіки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Луцької міської 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Arial"/>
              </a:rPr>
              <a:t>Виконання Прог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соціально-економічного розвитку м.Луцька                        </a:t>
            </a:r>
            <a:br>
              <a:rPr sz="3000"/>
            </a:b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у 2010 роц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6237360"/>
            <a:ext cx="50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Луцьк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89640" cy="281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708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зареєстрованого безробіття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413000"/>
          <a:ext cx="813744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37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Моніторинг  середньої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4037040" cy="452304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52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00000" y="1700280"/>
          <a:ext cx="763272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632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сплати населенням житлово-комунальних послуг</a:t>
            </a:r>
            <a:br>
              <a:rPr sz="2400"/>
            </a:b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(за відповідний місяць, у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844640"/>
          <a:ext cx="583236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583236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156360" y="1258560"/>
            <a:ext cx="280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У січні–листопаді населення міста сплатило за житлово-комунальні послуги, враховуючи погашення боргів попередніх років, 192,2 млн.грн., або на 15,3% більше, ніж у січні–листопаді 2009р. Рівень сплати становив 95,5% до нарахованої суми (у січні–листопаді 2009р. – 94,7%), що майже на рівні   середнь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обласного показ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0" y="429840"/>
            <a:ext cx="6092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боргованість 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268280"/>
          <a:ext cx="5545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5545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712880" y="2355480"/>
            <a:ext cx="773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Arial"/>
              </a:rPr>
              <a:t>(тис.грн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1142640"/>
            <a:ext cx="295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 початку року сума боргу зменшилась і на 01.01.11 становила 9014,2 тис. грн., із якої 51,9%  (4675,9 тис.грн.) припадає на економічно активні підприємства, решта – на підприємства, щодо яких реалізовано процедури відновлення платоспроможності боржника або визнання його банкрутом та економічно неактивні підприєм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уктура заборгованості і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1557360"/>
          <a:ext cx="7490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490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Фінансув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765000"/>
          <a:ext cx="8569440" cy="5407200"/>
        </p:xfrm>
        <a:graphic>
          <a:graphicData uri="http://schemas.openxmlformats.org/drawingml/2006/table">
            <a:tbl>
              <a:tblPr/>
              <a:tblGrid>
                <a:gridCol w="360360"/>
                <a:gridCol w="3816360"/>
                <a:gridCol w="865080"/>
                <a:gridCol w="863640"/>
                <a:gridCol w="935280"/>
                <a:gridCol w="792000"/>
                <a:gridCol w="9367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зва галуз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 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ено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че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ціальний захис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8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3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ві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44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14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77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хорона здоров’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14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9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лодіжна політика та 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5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9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ультура та збереження історичної спадщи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9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9,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К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608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96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10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1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істобуду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колог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дзвичайні ситу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звиток підприємниц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нергозбереж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6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сультативно-інформаційне забезпеч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формаційна політ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20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2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5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зом за програм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91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90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37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Викон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57360"/>
          <a:ext cx="9144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Основні тенденції економічного та соціального розвитку міста Луцька</a:t>
            </a:r>
            <a:br>
              <a:rPr sz="2000"/>
            </a:b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i="1" lang="uk-UA" sz="1600" spc="-1" strike="noStrike">
                <a:solidFill>
                  <a:srgbClr val="000099"/>
                </a:solidFill>
                <a:latin typeface="Times New Roman"/>
              </a:rPr>
              <a:t>а 2010 рік у порівнянні з 2009 роко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Пози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 розрахунку на одного жителя міста реалізовано промислової продукції на 9,2 тис.грн., забезпечено виконання річного завдання на 151,2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иконано будівельних робіт на 243,5 млн.грн.,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4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Введено в експлуатацію житла загальною площею 45,2 тис. кв. м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9% ніж за 2009 рі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Фінансовий результат від звичайної діяльності до оподаткування за 2010 рік становив 825,2 млн.грн. прибутку проти 373,7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Частка прибуткових суб’єктів господарювання склала 55,2% (у 2009р. – 54,8%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Досягнуто позитивного сальдо зовнішньої торгівлі товарами 6,7 млн.дол.США (за одинадцять місяців 2009р. було від’ємним – 17 млн.дол.СШ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творено за січень-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грудень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2010 року 5502 нових робочих місць, що становить 100% до завдання Програ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Працевлаштовано 6,5 тис.осіб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на 26,2% в порівнянні з 2009 рок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Рівень зареєстрованого безробіття на початок 2011року становив 2% населення у працездатному віці,що </a:t>
            </a:r>
            <a:r>
              <a:rPr b="0" lang="ru-RU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0,1 ві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соткового показника 2009 року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ередньомісячна заробітна плата за січень-грудень порівняно з відповідним періодом 2009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17,09% і становила 1850 грн. (по області - 1692 грн., по Україні – 2239 грн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економічно активних підприємствах в порівнянні з початком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8,1% і на 01.01.2011 р. становила 4,7млн. гривень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За 11 місяців 2010 р. населення міста сплатило за житлово-комунальні послуги 192,2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15,3% ніж у січні–листопаді 2009р. Рівень сплати становив 95,5% до нарахованої суми (у січні–листопаді 2009р. – 94,7%), що на рівні середньообласного показни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Оборот роздрібної торгівлі становить 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млрд. 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7,3 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Нег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Індекс споживчих цін в області за рік склав – 108,1% (в Україні – 109,1%),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Бюджет міста по доходах виконано на 94,9%, недоотримано доходів 30,8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датковий борг до бюджету міста на 1 січня 2011 року становив 8,4 млн. 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гальний борг бюджету міста на 1 січня 2011 року становив 15,3 млн. грн., з них з бюджету розвитку 6,9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 результатами господарської діяльності комунальні підприємства понесли збитки 37,3 млн.грн., проти 28,8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Кредиторська заборгованість комунальних підприємств становить 137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40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ебіторська заборгованість комунальних підприємств становить 64,6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 на 52,7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комунальних підприємствах 2,2 млн.гр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Борги населення за житловокомунальні послуги на 1 грудня 2010р. 41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24,7%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 відношенню до  1 грудня 2009 року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24000" y="6668280"/>
            <a:ext cx="5040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54080"/>
            <a:ext cx="7850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Обсяг реалізованої промислової продук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(товарів, по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за відповідний місяць, млн.гр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773360"/>
          <a:ext cx="56163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56163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12000" y="1286280"/>
            <a:ext cx="295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2010 році 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 розрахунку на одного жителя міста реалізовано промислової продукції на 9,2 тис.грн., забезпечено виконання річного завдання, встановленого Програмою на 2010 рік на 151,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нвести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052640"/>
          <a:ext cx="5472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5472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12000" y="1065600"/>
            <a:ext cx="2881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Загальний обсяг прямих іноземних інвестицій, внесених в економіку міста за весь період інвестування, станом на 01.01.2011 становив 210,2 млн.дол.США,  що на 7,8% більше обсягів на початок року.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сяг  інвестицій в розрахунку на одного жителя становив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10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09,8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дол.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США, що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в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3 рази вище загальнообласного показника.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иконання річного завдання, встановленого Програмою забезпечено на 85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68360" y="333000"/>
            <a:ext cx="590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будівельних робі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наростаючим підсумком у % до відповідного    періоду попереднього ро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989000"/>
          <a:ext cx="5976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5976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588000" y="1700280"/>
            <a:ext cx="23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підприємства виконали 61,1% загальнообласних обсягів будівельних робіт на суму 243,5 млн.грн., що в порівнянних цінах становить 103,4% обсягів 2009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-360"/>
            <a:ext cx="7210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вантажних перевезень                    автотранспортом підприєм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ростаючим підсумком у % до відповідного періоду попереднього 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916280"/>
          <a:ext cx="56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56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84720" y="1266480"/>
            <a:ext cx="288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автотранспортом підприємств перевезено 1,5 млн.т вантажів, що на 1,5% менше, ніж у попередньому році. Кожне друге підприємство наростило обсяги порівняно з 2009р., розпочали діяльність 5 нових підприємств, а 4 (9,1% із загальної кількості) не працювали у минулому ро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Транспортні перевез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84360" y="1052640"/>
          <a:ext cx="532764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5327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6156000" y="836640"/>
            <a:ext cx="28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Автотранспортом підприємств міста 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здійснено 61,2% пасажирських перевезень області, що відповідає 10,9 млн. осіб і на 2,3% більше, ніж у 2009р. Близько 73% підприємств зуміли покращити свої показники в порівнянні з попереднім р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Міським електричним транспортом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 користувалось 19,5 млн. громадян, з них 12,2 млн. осіб мали право на безкоштовний проїзд. В порівнянні з 2009р. обсяги перевезень зменшились майже на 11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екс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(у % до загального обсягу експор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983160"/>
            <a:ext cx="273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йбільше товарів експортовано до Російської Федерації – 70,2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Експортовано товарів на 166,8 млн.дол.США. Країни СНД – основні ринки збуту товарів. Експорт в ці країни становив 91,6 млн.дол. (54,9% загального обсягу), що в 1,7 раза більше, ніж у січні–листопаді 2009р. В країни Європи експортовано товарів на 66,3 млн.дол. (39,8%), на 53,1% більше, решта – в країни Азії, Америки і Африки</a:t>
            </a: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252360" y="1916280"/>
          <a:ext cx="67323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916280"/>
                    <a:ext cx="67323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362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ім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у % до загального обсягу імпор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9348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1413000"/>
            <a:ext cx="28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За січень-листопад імпортовано товарів на 160,1 млн.дол.США. Імпортних товарів з країн Європи надійшло на суму 119 млн.дол. США, (74,3% загальноміського обсягу), що на 19,3% більше, ніж у 2009р., з країн СНД – на 33,5 млн.дол.США, (20,9%), на 55,2% більше, з країн Азії – на 6,4 млн.дол.США, (4%), на 54,5% більше, решта – з країн Америки, Африки, Австралії і Оке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757080" y="2133720"/>
          <a:ext cx="7777080" cy="31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133720"/>
                    <a:ext cx="77770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142200"/>
            <a:ext cx="7777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міни обсягів обороту роздрібної торгів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197000"/>
          <a:ext cx="6337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6337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194520" y="24962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1039680"/>
            <a:ext cx="2376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орот роздрібної торгівлі  (з урахуванням </a:t>
            </a: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розрахункових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 даних щодо обсягів продажу товарів на ринках та фізичними особами–підприємцями) за 2010р. становив 5,2 млрд.грн., що на 7,3% більше обсягу 2009р. і складає майже 52% загальнообласного показ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22:04Z</dcterms:created>
  <dc:creator>SamLab.ws</dc:creator>
  <dc:description/>
  <dc:language>en-US</dc:language>
  <cp:lastModifiedBy>Яковлєв Тарас</cp:lastModifiedBy>
  <dcterms:modified xsi:type="dcterms:W3CDTF">2011-02-23T06:54:13Z</dcterms:modified>
  <cp:revision>112</cp:revision>
  <dc:subject/>
  <dc:title>Виконавчий комітет Луцької міської ради</dc:title>
</cp:coreProperties>
</file>