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611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00A9-3E02-4BB8-8ECD-3A5729237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54C4-3EEE-4A7A-BF47-F0BBE7E6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AD72-B517-45B1-8C0D-D807D0DB1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699-FDE2-4C32-B192-E5CDFCF55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3772-5E3D-4CA1-8AB0-3C22DFAFC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973-2529-4F24-88CA-06C67BFD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99B-E7CC-45C0-8180-E088DCCE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78EF-B80A-41D6-B2FD-734470EC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C6B8-E646-4F94-830E-9EA9FB4C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0A2-9E68-48D8-9208-0F9171F9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0188-89C6-4D00-A4B1-4D5E1240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15B6-C76A-4816-990A-31B798BA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97E2-975B-4880-BFF0-396ACD22C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3725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Управління економіки</a:t>
            </a: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Луцької міської ра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7138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99"/>
                </a:solidFill>
                <a:latin typeface="Arial"/>
              </a:rPr>
              <a:t>Виконання Програ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соціально-економічного розвитку м.Луцька                        </a:t>
            </a:r>
            <a:br>
              <a:rPr sz="3000"/>
            </a:br>
            <a:r>
              <a:rPr b="1" i="1" lang="uk-UA" sz="3000" spc="-1" strike="noStrike">
                <a:solidFill>
                  <a:srgbClr val="000099"/>
                </a:solidFill>
                <a:latin typeface="Arial"/>
              </a:rPr>
              <a:t>у 2010 роц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6237360"/>
            <a:ext cx="504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Луцьк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971640" y="3284640"/>
            <a:ext cx="7289640" cy="2819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70812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зареєстрованого безробіття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395280" y="1413000"/>
          <a:ext cx="813744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13744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Моніторинг  середньої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1600200"/>
          <a:ext cx="4037040" cy="4523040"/>
        </p:xfrm>
        <a:graphic>
          <a:graphicData uri="http://schemas.openxmlformats.org/drawingml/2006/table">
            <a:tbl>
              <a:tblPr/>
              <a:tblGrid>
                <a:gridCol w="4037040"/>
              </a:tblGrid>
              <a:tr h="4523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900000" y="1700280"/>
          <a:ext cx="763272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00280"/>
                    <a:ext cx="763272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Рівень сплати населенням житлово-комунальних послуг</a:t>
            </a:r>
            <a:br>
              <a:rPr sz="2400"/>
            </a:b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(за відповідний місяць, у 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50920" y="1844640"/>
          <a:ext cx="5832360" cy="373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844640"/>
                    <a:ext cx="583236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6156360" y="1258560"/>
            <a:ext cx="2808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У січні–листопаді населення міста сплатило за житлово-комунальні послуги, враховуючи погашення боргів попередніх років, 192,2 млн.грн., або на 15,3% більше, ніж у січні–листопаді 2009р. Рівень сплати становив 95,5% до нарахованої суми (у січні–листопаді 2009р. – 94,7%), що майже на рівні   середнь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обласного показ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983600" y="429840"/>
            <a:ext cx="6092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боргованість 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50920" y="1268280"/>
          <a:ext cx="5545080" cy="45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554508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712880" y="2355480"/>
            <a:ext cx="7736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uk-UA" sz="1100" spc="-1" strike="noStrike">
                <a:solidFill>
                  <a:srgbClr val="000000"/>
                </a:solidFill>
                <a:latin typeface="Arial"/>
                <a:ea typeface="Arial"/>
              </a:rPr>
              <a:t>(тис.грн.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1142640"/>
            <a:ext cx="2952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 початку року сума боргу зменшилась і на 01.01.11 становила 9014,2 тис. грн., із якої 51,9%  (4675,9 тис.грн.) припадає на економічно активні підприємства, решта – на підприємства, щодо яких реалізовано процедури відновлення платоспроможності боржника або визнання його банкрутом та економічно неактивні підприєм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труктура заборгованості із виплати заробітної пл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826920" y="1557360"/>
          <a:ext cx="74901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7360"/>
                    <a:ext cx="74901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Фінансув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765000"/>
          <a:ext cx="8569440" cy="5407200"/>
        </p:xfrm>
        <a:graphic>
          <a:graphicData uri="http://schemas.openxmlformats.org/drawingml/2006/table">
            <a:tbl>
              <a:tblPr/>
              <a:tblGrid>
                <a:gridCol w="360360"/>
                <a:gridCol w="3816360"/>
                <a:gridCol w="865080"/>
                <a:gridCol w="863640"/>
                <a:gridCol w="935280"/>
                <a:gridCol w="792000"/>
                <a:gridCol w="936720"/>
              </a:tblGrid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   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зва галуз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 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чено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рофінансов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10р.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тис.гр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треб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 ві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ередба-чен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Соціальний захист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182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83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світа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445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147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774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хорона здоров’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14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9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олодіжна політика та спорт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5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90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58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ультура та збереження історичної спадщин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91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1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9,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ЖК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6089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0961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9107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1,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істобудува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9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6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кологі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1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12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дзвичайні ситуації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7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3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озвиток підприємниц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40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Енергозбереж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68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64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нсультативно-інформаційне забезпеченн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440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50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7,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формаційна політи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203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08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78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8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6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Інш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222,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45,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28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7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3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Разом за програмам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2914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900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6370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2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2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9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Виконання державних та цільових програм з бюджету міста Луцька за 2010 рі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1557360"/>
          <a:ext cx="9144000" cy="44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856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Основні тенденції економічного та соціального розвитку міста Луцька</a:t>
            </a:r>
            <a:br>
              <a:rPr sz="2000"/>
            </a:br>
            <a:r>
              <a:rPr b="1" i="1" lang="uk-UA" sz="2000" spc="-1" strike="noStrike">
                <a:solidFill>
                  <a:srgbClr val="000099"/>
                </a:solidFill>
                <a:latin typeface="Times New Roman"/>
              </a:rPr>
              <a:t>з</a:t>
            </a:r>
            <a:r>
              <a:rPr b="1" i="1" lang="uk-UA" sz="1600" spc="-1" strike="noStrike">
                <a:solidFill>
                  <a:srgbClr val="000099"/>
                </a:solidFill>
                <a:latin typeface="Times New Roman"/>
              </a:rPr>
              <a:t>а 2010 рік у порівнянні з 2009 роком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Пози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 розрахунку на одного жителя міста реалізовано промислової продукції на 9,2 тис.грн., забезпечено виконання річного завдання на 151,2%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Виконано будівельних робіт на 243,5 млн.грн.,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4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Введено в експлуатацію житла загальною площею 45,2 тис. кв. м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,9% ніж за 2009 рік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Фінансовий результат від звичайної діяльності до оподаткування за 2010 рік становив 825,2 млн.грн. прибутку проти 373,7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Частка прибуткових суб’єктів господарювання склала 55,2% (у 2009р. – 54,8%)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Досягнуто позитивного сальдо зовнішньої торгівлі товарами 6,7 млн.дол.США (за одинадцять місяців 2009р. було від’ємним – 17 млн.дол.СШ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творено за січень-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грудень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2010 року 5502 нових робочих місць, що становить 100% до завдання Програми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Працевлаштовано 6,5 тис.осіб що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на 26,2% в порівнянні з 2009 рок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Рівень зареєстрованого безробіття на початок 2011року становив 2% населення у працездатному віці,що </a:t>
            </a:r>
            <a:r>
              <a:rPr b="0" lang="ru-RU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0,1 ві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соткового показника 2009 року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Середньомісячна заробітна плата за січень-грудень порівняно з відповідним періодом 2009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17,09% і становила 1850 грн. (по області - 1692 грн., по Україні – 2239 грн.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економічно активних підприємствах в порівнянні з початком року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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38,1% і на 01.01.2011 р. становила 4,7млн. гривень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За 11 місяців 2010 р. населення міста сплатило за житлово-комунальні послуги 192,2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 на 15,3% ніж у січні–листопаді 2009р. Рівень сплати становив 95,5% до нарахованої суми (у січні–листопаді 2009р. – 94,7%), що на рівні середньообласного показни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Оборот роздрібної торгівлі становить 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,</a:t>
            </a:r>
            <a:r>
              <a:rPr b="0" lang="en-US" sz="11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млрд. 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7,3 % у порівняних цінах по відношенню до 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100" spc="-1" strike="noStrike">
                <a:solidFill>
                  <a:srgbClr val="000099"/>
                </a:solidFill>
                <a:latin typeface="Arial"/>
              </a:rPr>
              <a:t>Негати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Індекс споживчих цін в області за рік склав – 108,1% (в Україні – 109,1%),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99"/>
                </a:solidFill>
                <a:latin typeface="Arial"/>
              </a:rPr>
              <a:t>Бюджет міста по доходах виконано на 94,9%, недоотримано доходів 30,8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датковий борг до бюджету міста на 1 січня 2011 року становив 8,4 млн. 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гальний борг бюджету міста на 1 січня 2011 року становив 15,3 млн. грн., з них з бюджету розвитку 6,9 млн.грн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 результатами господарської діяльності комунальні підприємства понесли збитки 37,3 млн.грн., проти 28,8 млн.грн. збитків 2009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Кредиторська заборгованість комунальних підприємств становить 137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40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Дебіторська заборгованість комунальних підприємств становить 64,6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 на 52,7% з початку ро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Заборгованість з виплати заробітної плати на комунальних підприємствах 2,2 млн.грн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Борги населення за житловокомунальні послуги на 1 грудня 2010р. 41,1 млн.грн., що </a:t>
            </a:r>
            <a:r>
              <a:rPr b="0" lang="uk-UA" sz="1100" spc="-1" strike="noStrike">
                <a:solidFill>
                  <a:srgbClr val="000099"/>
                </a:solidFill>
                <a:latin typeface="Symbol"/>
                <a:ea typeface="Symbol"/>
              </a:rPr>
              <a:t>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 на 24,7%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100" spc="-1" strike="noStrike">
                <a:solidFill>
                  <a:srgbClr val="000099"/>
                </a:solidFill>
                <a:latin typeface="Arial"/>
              </a:rPr>
              <a:t>по відношенню до  1 грудня 2009 року.</a:t>
            </a: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124000" y="6668280"/>
            <a:ext cx="504036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042920" y="154080"/>
            <a:ext cx="7850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Обсяг реалізованої промислової продукці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(товарів, послу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за відповідний місяць, млн.гр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24000" y="1773360"/>
          <a:ext cx="5616360" cy="40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773360"/>
                    <a:ext cx="5616360" cy="40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012000" y="1286280"/>
            <a:ext cx="295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У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2010 році підприємствами міста реалізовано промислової продукції на 1,9 млрд.грн., що становить понад чверть загальнообласних обсягів. Виконання річного завдання, встановленого Програмою на 2010 рік забезпечено на 151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 розрахунку на одного жителя міста реалізовано промислової продукції на 9,2 тис.грн., забезпечено виконання річного завдання, встановленого Програмою на 2010 рік на 151,2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Інвестиці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39640" y="1052640"/>
          <a:ext cx="547236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052640"/>
                    <a:ext cx="547236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6012000" y="1065600"/>
            <a:ext cx="28810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Загальний обсяг прямих іноземних інвестицій, внесених в економіку міста за весь період інвестування, станом на 01.01.2011 становив 210,2 млн.дол.США,  що на 7,8% більше обсягів на початок року.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сяг  інвестицій в розрахунку на одного жителя становив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10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09,8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дол.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США, що 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в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3 рази вище загальнообласного показника.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Виконання річного завдання, встановленого Програмою забезпечено на 85,0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268360" y="333000"/>
            <a:ext cx="59040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будівельних робі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наростаючим підсумком у % до відповідного    періоду попереднього рок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68360" y="1989000"/>
          <a:ext cx="59767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5976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588000" y="1700280"/>
            <a:ext cx="23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підприємства виконали 61,1% загальнообласних обсягів будівельних робіт на суму 243,5 млн.грн., що в порівнянних цінах становить 103,4% обсягів 2009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331640" y="-360"/>
            <a:ext cx="72104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Зміни обсягів вантажних перевезень                    автотранспортом підприєм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uk-UA" sz="18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ростаючим підсумком у % до відповідного періоду попереднього рок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539640" y="1916280"/>
          <a:ext cx="5616720" cy="439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916280"/>
                    <a:ext cx="5616720" cy="43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6084720" y="1266480"/>
            <a:ext cx="2880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За 2010 рік автотранспортом підприємств перевезено 1,5 млн.т вантажів, що на 1,5% менше, ніж у попередньому році. Кожне друге підприємство наростило обсяги порівняно з 2009р., розпочали діяльність 5 нових підприємств, а 4 (9,1% із загальної кількості) не працювали у минулому році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Транспортні перевезення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8480" cy="45259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525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684360" y="1052640"/>
          <a:ext cx="5327640" cy="56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052640"/>
                    <a:ext cx="5327640" cy="56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 txBox="1"/>
          <p:nvPr/>
        </p:nvSpPr>
        <p:spPr>
          <a:xfrm>
            <a:off x="6156000" y="836640"/>
            <a:ext cx="280836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Автотранспортом підприємств міста 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здійснено 61,2% пасажирських перевезень області, що відповідає 10,9 млн. осіб і на 2,3% більше, ніж у 2009р. Близько 73% підприємств зуміли покращити свої показники в порівнянні з попереднім рок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Міським електричним транспортом</a:t>
            </a:r>
            <a:r>
              <a:rPr b="0" lang="uk-UA" sz="1600" spc="-1" strike="noStrike">
                <a:solidFill>
                  <a:srgbClr val="000099"/>
                </a:solidFill>
                <a:latin typeface="Times New Roman"/>
              </a:rPr>
              <a:t> користувалось 19,5 млн. громадян, з них 12,2 млн. осіб мали право на безкоштовний проїзд. В порівнянні з 2009р. обсяги перевезень зменшились майже на 11%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189000"/>
            <a:ext cx="8136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екс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                       </a:t>
            </a:r>
            <a:r>
              <a:rPr b="0" lang="uk-UA" sz="1800" spc="-1" strike="noStrike">
                <a:solidFill>
                  <a:srgbClr val="000099"/>
                </a:solidFill>
                <a:latin typeface="Times New Roman"/>
              </a:rPr>
              <a:t>(у % до загального обсягу експорт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156360" y="983160"/>
            <a:ext cx="273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Найбільше товарів експортовано до Російської Федерації – 70,2</a:t>
            </a:r>
            <a:r>
              <a:rPr b="1" lang="ru-RU" sz="1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Експортовано товарів на 166,8 млн.дол.США. Країни СНД – основні ринки збуту товарів. Експорт в ці країни становив 91,6 млн.дол. (54,9% загального обсягу), що в 1,7 раза більше, ніж у січні–листопаді 2009р. В країни Європи експортовано товарів на 66,3 млн.дол. (39,8%), на 53,1% більше, решта – в країни Азії, Америки і Африки</a:t>
            </a:r>
            <a:r>
              <a:rPr b="1" lang="uk-UA" sz="16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-252360" y="1916280"/>
          <a:ext cx="6732360" cy="320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1916280"/>
                    <a:ext cx="673236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362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Географічна структура імпорту товар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99"/>
                </a:solidFill>
                <a:latin typeface="Times New Roman"/>
              </a:rPr>
              <a:t>                          </a:t>
            </a:r>
            <a:r>
              <a:rPr b="0" lang="uk-UA" sz="2000" spc="-1" strike="noStrike">
                <a:solidFill>
                  <a:srgbClr val="000099"/>
                </a:solidFill>
                <a:latin typeface="Times New Roman"/>
              </a:rPr>
              <a:t>(у % до загального обсягу імпорту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493488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1413000"/>
            <a:ext cx="2880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За січень-листопад імпортовано товарів на 160,1 млн.дол.США. Імпортних товарів з країн Європи надійшло на суму 119 млн.дол. США, (74,3% загальноміського обсягу), що на 19,3% більше, ніж у 2009р., з країн СНД – на 33,5 млн.дол.США, (20,9%), на 55,2% більше, з країн Азії – на 6,4 млн.дол.США, (4%), на 54,5% більше, решта – з країн Америки, Африки, Австралії і Океан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757080" y="2133720"/>
          <a:ext cx="7777080" cy="318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757080" y="2133720"/>
                    <a:ext cx="7777080" cy="31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42920" y="142200"/>
            <a:ext cx="7777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uk-UA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міни обсягів обороту роздрібної торгівл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50920" y="1197000"/>
          <a:ext cx="633708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63370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6194520" y="24962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1039680"/>
            <a:ext cx="237672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Оборот роздрібної торгівлі  (з урахуванням </a:t>
            </a:r>
            <a:r>
              <a:rPr b="1" lang="uk-UA" sz="2000" spc="-1" strike="noStrike">
                <a:solidFill>
                  <a:srgbClr val="000099"/>
                </a:solidFill>
                <a:latin typeface="Times New Roman"/>
              </a:rPr>
              <a:t>розрахункових</a:t>
            </a:r>
            <a:r>
              <a:rPr b="1" lang="uk-UA" sz="1800" spc="-1" strike="noStrike">
                <a:solidFill>
                  <a:srgbClr val="000099"/>
                </a:solidFill>
                <a:latin typeface="Times New Roman"/>
              </a:rPr>
              <a:t> даних щодо обсягів продажу товарів на ринках та фізичними особами–підприємцями) за 2010р. становив 5,2 млрд.грн., що на 7,3% більше обсягу 2009р. і складає майже 52% загальнообласного показ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22:04Z</dcterms:created>
  <dc:creator>SamLab.ws</dc:creator>
  <dc:description/>
  <dc:language>en-US</dc:language>
  <cp:lastModifiedBy>Яковлєв Тарас</cp:lastModifiedBy>
  <dcterms:modified xsi:type="dcterms:W3CDTF">2011-02-23T06:54:13Z</dcterms:modified>
  <cp:revision>112</cp:revision>
  <dc:subject/>
  <dc:title>Виконавчий комітет Луцької міської ради</dc:title>
</cp:coreProperties>
</file>