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2FCF-D801-4BFE-AEB7-0FA726D3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48BE-4E7C-4D74-A9EA-267EA69D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C05-2240-4A6D-9834-1911D018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87D-F864-41B9-8EFB-DE972916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726-48F3-4487-BA4A-CF3C07A5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137-1F3F-4AB0-9AFD-FF87BD77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FBF-D721-4073-B83B-1F1E7B21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7BD-047A-4ED3-996B-20A6D801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EE2-8E3F-436C-8089-786209F4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927-208B-435F-92CA-60A01E77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701-A4FF-40AC-83EF-8D111A01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BE1-0C11-4212-BAE8-B0ABDC83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714A-A5D5-44BB-9AA3-6B9625D71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725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Управління економіки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Луцької міської 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Arial"/>
              </a:rPr>
              <a:t>Виконання Прог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99"/>
                </a:solidFill>
                <a:latin typeface="Arial"/>
              </a:rPr>
              <a:t>соціально-економічного розвитку м.Луцька                        </a:t>
            </a:r>
            <a:br>
              <a:rPr sz="3000"/>
            </a:br>
            <a:r>
              <a:rPr b="1" i="1" lang="uk-UA" sz="3000" spc="-1" strike="noStrike">
                <a:solidFill>
                  <a:srgbClr val="000099"/>
                </a:solidFill>
                <a:latin typeface="Arial"/>
              </a:rPr>
              <a:t>у 2010 роц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6237360"/>
            <a:ext cx="50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Луцьк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7289640" cy="2819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72360" y="260280"/>
            <a:ext cx="7081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Рівень зареєстрованого безробіття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413000"/>
          <a:ext cx="813744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1374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Моніторинг  середньої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4037040" cy="452304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52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00000" y="1700280"/>
          <a:ext cx="763272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7632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Рівень сплати населенням житлово-комунальних послуг</a:t>
            </a:r>
            <a:br>
              <a:rPr sz="2400"/>
            </a:b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(за відповідний місяць, у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844640"/>
          <a:ext cx="583236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583236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156360" y="1258560"/>
            <a:ext cx="2808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У січні–листопаді населення міста сплатило за житлово-комунальні послуги, враховуючи погашення боргів попередніх років, 192,2 млн.грн., або на 15,3% більше, ніж у січні–листопаді 2009р. Рівень сплати становив 95,5% до нарахованої суми (у січні–листопаді 2009р. – 94,7%), що майже на рівні   середнь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обласного показ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3600" y="429840"/>
            <a:ext cx="6092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боргованість з виплати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268280"/>
          <a:ext cx="55450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68280"/>
                    <a:ext cx="5545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712880" y="2355480"/>
            <a:ext cx="7736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Arial"/>
              </a:rPr>
              <a:t>(тис.грн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1142640"/>
            <a:ext cx="295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 початку року сума боргу зменшилась і на 01.01.11 становила 9014,2 тис. грн., із якої 51,9%  (4675,9 тис.грн.) припадає на економічно активні підприємства, решта – на підприємства, щодо яких реалізовано процедури відновлення платоспроможності боржника або визнання його банкрутом та економічно неактивні підприєм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руктура заборгованості із виплати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26920" y="1557360"/>
          <a:ext cx="74901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490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Фінансування державних та цільових програм з бюджету міста Луцька за 2010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765000"/>
          <a:ext cx="8569440" cy="5407200"/>
        </p:xfrm>
        <a:graphic>
          <a:graphicData uri="http://schemas.openxmlformats.org/drawingml/2006/table">
            <a:tbl>
              <a:tblPr/>
              <a:tblGrid>
                <a:gridCol w="360360"/>
                <a:gridCol w="3816360"/>
                <a:gridCol w="865080"/>
                <a:gridCol w="863640"/>
                <a:gridCol w="935280"/>
                <a:gridCol w="792000"/>
                <a:gridCol w="93672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зва галуз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тре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 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ба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чено 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фінан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ві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треб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 ві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ба-че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ціальний захис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8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8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3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ві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445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147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77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хорона здоров’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14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9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лодіжна політика та спор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5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9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8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ультура та збереження історичної спадщи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9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1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9,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ЖК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608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961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9107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1,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істобудув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5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6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кологі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1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дзвичайні ситуац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7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озвиток підприємниц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нергозбереже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8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64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сультативно-інформаційне забезпече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Інформаційна політ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20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78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Інш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22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45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зом за програм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914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900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637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Виконання державних та цільових програм з бюджету міста Луцька за 2010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57360"/>
          <a:ext cx="91440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Основні тенденції економічного та соціального розвитку міста Луцька</a:t>
            </a:r>
            <a:br>
              <a:rPr sz="2000"/>
            </a:b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i="1" lang="uk-UA" sz="1600" spc="-1" strike="noStrike">
                <a:solidFill>
                  <a:srgbClr val="000099"/>
                </a:solidFill>
                <a:latin typeface="Times New Roman"/>
              </a:rPr>
              <a:t>а 2010 рік у порівнянні з 2009 роко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i="1" lang="uk-UA" sz="1100" spc="-1" strike="noStrike">
                <a:solidFill>
                  <a:srgbClr val="000099"/>
                </a:solidFill>
                <a:latin typeface="Arial"/>
              </a:rPr>
              <a:t>Пози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ідприємствами міста реалізовано промислової продукції на 1,9 млрд.грн., що становить понад чверть загальнообласних обсягів. Виконання річного завдання, встановленого Програмою на 2010 рік забезпечено на 151,0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В розрахунку на одного жителя міста реалізовано промислової продукції на 9,2 тис.грн., забезпечено виконання річного завдання на 151,2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Виконано будівельних робіт на 243,5 млн.грн., що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,4% у порівняних цінах по відношенню до 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Введено в експлуатацію житла загальною площею 45,2 тис. кв. м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,9% ніж за 2009 рі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Фінансовий результат від звичайної діяльності до оподаткування за 2010 рік становив 825,2 млн.грн. прибутку проти 373,7 млн.грн. збитків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Частка прибуткових суб’єктів господарювання склала 55,2% (у 2009р. – 54,8%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Досягнуто позитивного сальдо зовнішньої торгівлі товарами 6,7 млн.дол.США (за одинадцять місяців 2009р. було від’ємним – 17 млн.дол.СШ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Створено за січень-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грудень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2010 року 5502 нових робочих місць, що становить 100% до завдання Програ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Працевлаштовано 6,5 тис.осіб що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на 26,2% в порівнянні з 2009 рок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Рівень зареєстрованого безробіття на початок 2011року становив 2% населення у працездатному віці,що </a:t>
            </a:r>
            <a:r>
              <a:rPr b="0" lang="ru-RU" sz="11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 на 0,1 ві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дсоткового показника 2009 року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Середньомісячна заробітна плата за січень-грудень порівняно з відповідним періодом 2009 року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17,09% і становила 1850 грн. (по області - 1692 грн., по Україні – 2239 грн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боргованість з виплати заробітної плати на економічно активних підприємствах в порівнянні з початком року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8,1% і на 01.01.2011 р. становила 4,7млн. гривень.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За 11 місяців 2010 р. населення міста сплатило за житлово-комунальні послуги 192,2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 на 15,3% ніж у січні–листопаді 2009р. Рівень сплати становив 95,5% до нарахованої суми (у січні–листопаді 2009р. – 94,7%), що на рівні середньообласного показни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Оборот роздрібної торгівлі становить </a:t>
            </a: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млрд. 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7,3 % у порівняних цінах по відношенню до 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0099"/>
                </a:solidFill>
                <a:latin typeface="Arial"/>
              </a:rPr>
              <a:t>Нега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Індекс споживчих цін в області за рік склав – 108,1% (в Україні – 109,1%),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Бюджет міста по доходах виконано на 94,9%, недоотримано доходів 30,8 млн.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одатковий борг до бюджету міста на 1 січня 2011 року становив 8,4 млн. 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гальний борг бюджету міста на 1 січня 2011 року становив 15,3 млн. грн., з них з бюджету розвитку 6,9 млн.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 результатами господарської діяльності комунальні підприємства понесли збитки 37,3 млн.грн., проти 28,8 млн.грн. збитків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Кредиторська заборгованість комунальних підприємств становить 137,1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40% з початку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Дебіторська заборгованість комунальних підприємств становить 64,6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 на 52,7% з початку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боргованість з виплати заробітної плати на комунальних підприємствах 2,2 млн.гр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Борги населення за житловокомунальні послуги на 1 грудня 2010р. 41,1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24,7%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о відношенню до  1 грудня 2009 року.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24000" y="6668280"/>
            <a:ext cx="50403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54080"/>
            <a:ext cx="7850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Обсяг реалізованої промислової продук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(товарів, послу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за відповідний місяць, млн.гр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4000" y="1773360"/>
          <a:ext cx="561636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561636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012000" y="1286280"/>
            <a:ext cx="295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2010 році підприємствами міста реалізовано промислової продукції на 1,9 млрд.грн., що становить понад чверть загальнообласних обсягів. Виконання річного завдання, встановленого Програмою на 2010 рік забезпечено на 151,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В розрахунку на одного жителя міста реалізовано промислової продукції на 9,2 тис.грн., забезпечено виконання річного завдання, встановленого Програмою на 2010 рік на 151,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Інвести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1052640"/>
          <a:ext cx="547236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54723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012000" y="1065600"/>
            <a:ext cx="2881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Загальний обсяг прямих іноземних інвестицій, внесених в економіку міста за весь період інвестування, станом на 01.01.2011 становив 210,2 млн.дол.США,  що на 7,8% більше обсягів на початок року.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Обсяг  інвестицій в розрахунку на одного жителя становив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10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09,8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дол.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США, що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в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3 рази вище загальнообласного показника.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Виконання річного завдання, встановленого Програмою забезпечено на 85,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68360" y="333000"/>
            <a:ext cx="590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и обсягів будівельних робі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наростаючим підсумком у % до відповідного    періоду попереднього ро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1989000"/>
          <a:ext cx="59767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5976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588000" y="1700280"/>
            <a:ext cx="237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а 2010 рік підприємства виконали 61,1% загальнообласних обсягів будівельних робіт на суму 243,5 млн.грн., що в порівнянних цінах становить 103,4% обсягів 2009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-360"/>
            <a:ext cx="7210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и обсягів вантажних перевезень                    автотранспортом підприєм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наростаючим підсумком у % до відповідного періоду попереднього ро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916280"/>
          <a:ext cx="56167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56167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084720" y="1266480"/>
            <a:ext cx="2880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а 2010 рік автотранспортом підприємств перевезено 1,5 млн.т вантажів, що на 1,5% менше, ніж у попередньому році. Кожне друге підприємство наростило обсяги порівняно з 2009р., розпочали діяльність 5 нових підприємств, а 4 (9,1% із загальної кількості) не працювали у минулому ро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Транспортні перевезе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84360" y="1052640"/>
          <a:ext cx="532764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5327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 txBox="1"/>
          <p:nvPr/>
        </p:nvSpPr>
        <p:spPr>
          <a:xfrm>
            <a:off x="6156000" y="836640"/>
            <a:ext cx="2808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Автотранспортом підприємств міста </a:t>
            </a:r>
            <a:r>
              <a:rPr b="0" lang="uk-UA" sz="1600" spc="-1" strike="noStrike">
                <a:solidFill>
                  <a:srgbClr val="000099"/>
                </a:solidFill>
                <a:latin typeface="Times New Roman"/>
              </a:rPr>
              <a:t>здійснено 61,2% пасажирських перевезень області, що відповідає 10,9 млн. осіб і на 2,3% більше, ніж у 2009р. Близько 73% підприємств зуміли покращити свої показники в порівнянні з попереднім ро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Міським електричним транспортом</a:t>
            </a:r>
            <a:r>
              <a:rPr b="0" lang="uk-UA" sz="1600" spc="-1" strike="noStrike">
                <a:solidFill>
                  <a:srgbClr val="000099"/>
                </a:solidFill>
                <a:latin typeface="Times New Roman"/>
              </a:rPr>
              <a:t> користувалось 19,5 млн. громадян, з них 12,2 млн. осіб мали право на безкоштовний проїзд. В порівнянні з 2009р. обсяги перевезень зменшились майже на 11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6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Географічна структура експорту тов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(у % до загального обсягу експорт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56360" y="983160"/>
            <a:ext cx="273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Найбільше товарів експортовано до Російської Федерації – 70,2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Експортовано товарів на 166,8 млн.дол.США. Країни СНД – основні ринки збуту товарів. Експорт в ці країни становив 91,6 млн.дол. (54,9% загального обсягу), що в 1,7 раза більше, ніж у січні–листопаді 2009р. В країни Європи експортовано товарів на 66,3 млн.дол. (39,8%), на 53,1% більше, решта – в країни Азії, Америки і Африки</a:t>
            </a: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252360" y="1916280"/>
          <a:ext cx="67323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1916280"/>
                    <a:ext cx="67323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362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Географічна структура імпорту тов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                         </a:t>
            </a: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у % до загального обсягу імпор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493488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1413000"/>
            <a:ext cx="288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За січень-листопад імпортовано товарів на 160,1 млн.дол.США. Імпортних товарів з країн Європи надійшло на суму 119 млн.дол. США, (74,3% загальноміського обсягу), що на 19,3% більше, ніж у 2009р., з країн СНД – на 33,5 млн.дол.США, (20,9%), на 55,2% більше, з країн Азії – на 6,4 млн.дол.США, (4%), на 54,5% більше, решта – з країн Америки, Африки, Австралії і Океан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757080" y="2133720"/>
          <a:ext cx="7777080" cy="318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133720"/>
                    <a:ext cx="777708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142200"/>
            <a:ext cx="7777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міни обсягів обороту роздрібної торгів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197000"/>
          <a:ext cx="63370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6337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6194520" y="24962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1039680"/>
            <a:ext cx="23767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Оборот роздрібної торгівлі  (з урахуванням </a:t>
            </a: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розрахункових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 даних щодо обсягів продажу товарів на ринках та фізичними особами–підприємцями) за 2010р. становив 5,2 млрд.грн., що на 7,3% більше обсягу 2009р. і складає майже 52% загальнообласного показ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22:04Z</dcterms:created>
  <dc:creator>SamLab.ws</dc:creator>
  <dc:description/>
  <dc:language>en-US</dc:language>
  <cp:lastModifiedBy>Яковлєв Тарас</cp:lastModifiedBy>
  <dcterms:modified xsi:type="dcterms:W3CDTF">2011-02-23T06:54:13Z</dcterms:modified>
  <cp:revision>112</cp:revision>
  <dc:subject/>
  <dc:title>Виконавчий комітет Луцької міської ради</dc:title>
</cp:coreProperties>
</file>